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C84-B849-48E4-B413-730538D2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CA9-41FD-4719-A229-FA23D52B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CFB-4509-411C-8C75-2A24FAF2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688-F439-496A-8640-2801CAFE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3EA3-43A5-4218-8AE5-D832D3FE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C5F7-80E8-45D4-A1E9-6DDFB083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06F1-B5A0-4D44-909D-37402D00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9597-BB2E-48EC-A695-F3248F6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DE5D-510C-4087-838D-3939D272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53EE-E8DA-4E64-8F7B-2F0AAE46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3BFA-AFD5-4DE2-831F-F58E8A6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E0D-FB4D-4BD1-BDBE-771EAAC8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23E9-5CD0-457E-9EFE-DDEE5745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CF0D-6F64-49BA-A760-06E6CDC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CFDE-EEF3-4B5E-AF71-52945B0E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5726-C75E-46D0-BC1F-09D270FB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6C46-9666-41A2-8A40-97946277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19D-17D8-4BE7-B434-41BB95E9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B69-D72F-42F1-8F8A-FF5C8F6E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3D0-5A74-4E6C-AA3D-B40D5D1F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E4A-3CA7-493A-9E04-6BDF23D9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A14-DAED-4697-91B1-F53C700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2FA-6C06-496F-8507-F9E7E44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F16-DAAA-4713-B4E3-6368DE7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A468-6439-4CD8-905D-E5379C9CF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6127" y="7280"/>
                    <a:pt x="64000" y="18993"/>
                    <a:pt x="64000" y="32000"/>
                  </a:cubicBezTo>
                  <a:cubicBezTo>
                    <a:pt x="64000" y="45006"/>
                    <a:pt x="56127" y="56719"/>
                    <a:pt x="44083" y="61631"/>
                  </a:cubicBezTo>
                  <a:cubicBezTo>
                    <a:pt x="44082" y="61631"/>
                    <a:pt x="44082" y="61631"/>
                    <a:pt x="44082" y="61631"/>
                  </a:cubicBezTo>
                  <a:lnTo>
                    <a:pt x="44083" y="61632"/>
                  </a:lnTo>
                  <a:lnTo>
                    <a:pt x="44083" y="2368"/>
                  </a:lnTo>
                  <a:lnTo>
                    <a:pt x="44082" y="2368"/>
                  </a:lnTo>
                  <a:cubicBezTo>
                    <a:pt x="44082" y="2368"/>
                    <a:pt x="44082" y="2368"/>
                    <a:pt x="4408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9172" y="12279"/>
                    <a:pt x="64000" y="21837"/>
                    <a:pt x="64000" y="32000"/>
                  </a:cubicBezTo>
                  <a:cubicBezTo>
                    <a:pt x="64000" y="42162"/>
                    <a:pt x="59172" y="51720"/>
                    <a:pt x="50994" y="57753"/>
                  </a:cubicBezTo>
                  <a:cubicBezTo>
                    <a:pt x="50993" y="57753"/>
                    <a:pt x="50993" y="57753"/>
                    <a:pt x="50993" y="57753"/>
                  </a:cubicBezTo>
                  <a:lnTo>
                    <a:pt x="50994" y="57754"/>
                  </a:lnTo>
                  <a:lnTo>
                    <a:pt x="50994" y="6246"/>
                  </a:lnTo>
                  <a:lnTo>
                    <a:pt x="50993" y="6246"/>
                  </a:lnTo>
                  <a:cubicBezTo>
                    <a:pt x="50993" y="6246"/>
                    <a:pt x="50993" y="6246"/>
                    <a:pt x="50994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25B3-0585-4068-87FF-941FDE919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Ebertfriedrich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a/Spartacus_fight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he Weimar Republic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ikorp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erm was used for the right-wing paramilitary organizations that sprang up around Germany as soldiers returned in defeat from WW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were the key Weimar paramilitary groups active during that ti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German veterans felt disconnected from civilian life, and joined a Freikorps in search of stability within a military structure. Others, angry at their sudden, apparently inexplicable defeat, joined up in an effort to put down Communist uprisings or exact some form of reveng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y were officially 'disbanded' in 1920; but some, instead of disbanding, attempted to overthrow the government in the Kapp Putsch in March 192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Germany’s Government before WW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16000" y="1700280"/>
            <a:ext cx="6032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ong tradition of authoritarian rule and no experience of democracy or equal rights and freed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fter The German states united in 1871, authority was held by the Kaiser and his Chancel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lthough a parliament existed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t could only amend 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Kaiser was able to appoint and dismiss all officials, to decl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ar or peace and conduct foreign affai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hw_wilhelm_02"/>
          <p:cNvPicPr/>
          <p:nvPr/>
        </p:nvPicPr>
        <p:blipFill>
          <a:blip r:embed="rId1"/>
          <a:stretch/>
        </p:blipFill>
        <p:spPr>
          <a:xfrm>
            <a:off x="250920" y="1844640"/>
            <a:ext cx="2590560" cy="3960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50920" y="5950080"/>
            <a:ext cx="2592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iser Wilhelm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6327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ifficulty obtaining raw materials for manufactu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Food shor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abour regulated by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Kaiser Wilhelm and the Chancellor quickly lost power – they were replaced by military team (Hindenburg and Ludendorf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Germany during WW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9" descr="hw_wilhelm_02"/>
          <p:cNvPicPr/>
          <p:nvPr/>
        </p:nvPicPr>
        <p:blipFill>
          <a:blip r:embed="rId1"/>
          <a:stretch/>
        </p:blipFill>
        <p:spPr>
          <a:xfrm>
            <a:off x="2843280" y="1197000"/>
            <a:ext cx="3201840" cy="4896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0"/>
          <p:cNvSpPr/>
          <p:nvPr/>
        </p:nvSpPr>
        <p:spPr>
          <a:xfrm>
            <a:off x="2124000" y="1268280"/>
            <a:ext cx="4659480" cy="4370400"/>
          </a:xfrm>
          <a:custGeom>
            <a:avLst/>
            <a:gdLst>
              <a:gd name="textAreaLeft" fmla="*/ 682200 w 4659480"/>
              <a:gd name="textAreaRight" fmla="*/ 3977280 w 4659480"/>
              <a:gd name="textAreaTop" fmla="*/ 639720 h 4370400"/>
              <a:gd name="textAreaBottom" fmla="*/ 3730680 h 437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95" y="17429"/>
                </a:moveTo>
                <a:cubicBezTo>
                  <a:pt x="19744" y="15615"/>
                  <a:pt x="20658" y="13251"/>
                  <a:pt x="20658" y="10800"/>
                </a:cubicBezTo>
                <a:cubicBezTo>
                  <a:pt x="20658" y="5355"/>
                  <a:pt x="16244" y="942"/>
                  <a:pt x="10800" y="942"/>
                </a:cubicBezTo>
                <a:cubicBezTo>
                  <a:pt x="8348" y="941"/>
                  <a:pt x="5984" y="1855"/>
                  <a:pt x="4170" y="3504"/>
                </a:cubicBezTo>
                <a:lnTo>
                  <a:pt x="18095" y="17429"/>
                </a:lnTo>
                <a:close/>
                <a:moveTo>
                  <a:pt x="3504" y="4170"/>
                </a:moveTo>
                <a:cubicBezTo>
                  <a:pt x="1855" y="5984"/>
                  <a:pt x="941" y="8348"/>
                  <a:pt x="941" y="10799"/>
                </a:cubicBezTo>
                <a:cubicBezTo>
                  <a:pt x="942" y="16244"/>
                  <a:pt x="5355" y="20658"/>
                  <a:pt x="10800" y="20658"/>
                </a:cubicBezTo>
                <a:cubicBezTo>
                  <a:pt x="13251" y="20658"/>
                  <a:pt x="15615" y="19744"/>
                  <a:pt x="17429" y="18095"/>
                </a:cubicBezTo>
                <a:lnTo>
                  <a:pt x="3504" y="417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kowno_hindenburg%2Bludendorff1"/>
          <p:cNvPicPr/>
          <p:nvPr/>
        </p:nvPicPr>
        <p:blipFill>
          <a:blip r:embed="rId2"/>
          <a:stretch/>
        </p:blipFill>
        <p:spPr>
          <a:xfrm>
            <a:off x="1692360" y="620640"/>
            <a:ext cx="5346720" cy="5927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How Germany became a Democrac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3137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Verdana"/>
              </a:rPr>
              <a:t>When it was realised that the war was lost, it was also realised that the allies would not negotiate peace with an undemocratic countr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Verdana"/>
              </a:rPr>
              <a:t>Power handed over to Reichstag (Parliament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Verdana"/>
              </a:rPr>
              <a:t>The new democratic government was then blamed for the defeat within Germany by prominent Germa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Verdana"/>
              </a:rPr>
              <a:t>Discipline had begun to break down within the army – because of food shortages and feelings of defeat – the people demanded the overthrow of the Kais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1280" y="5877000"/>
            <a:ext cx="3816360" cy="6984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ichstag: German Parlia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859280" y="602136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227640" y="5877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to Gloss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Strengths of the New Democrac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Verdana"/>
              </a:rPr>
              <a:t>First time German people were given democratic right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Equality before la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Personal liber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Freedom of speec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Assemb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Relig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Weaknesses of the Weimar Republic and Constitu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oting based on proportional representation – any party that gained 60 000 votes won a seat – even small parties could gain a s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is made it difficult to establish a stable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30 different parties came to power in a short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arger parties forced to form coalitions with small pa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rticle 48 of constitution – allowed the President extraordinary powers in times of emergency (overruling democrac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Key People and Group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edrich Ebe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58920" y="1827000"/>
            <a:ext cx="56242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iedrich Ebe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as a German politician from the Social Democratic Party (SDP), who served as Chancellor of Germany and its first president during the Weimar peri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Friedrich Ebe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268360" cy="32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partacis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79640" y="1700280"/>
            <a:ext cx="511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partacist Leagu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was a left-wing Marxist revolutionary movement organized in Germany during and just after the politically volatile years of WWI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League subsequently renamed itself the Communist Party of Germany (KPD), joining the Comintern in 1919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League and the subsequent KPD were famous for street battles with police and other direct action militant activities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7" descr="Image:Spartacus figh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989000"/>
            <a:ext cx="3457440" cy="264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0" y="4797360"/>
            <a:ext cx="356400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unists of the Spartacist League fighting in the streets of Berlin during the German Revolution 1918-1919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2:07:42Z</dcterms:created>
  <dc:creator>scgiles</dc:creator>
  <dc:description/>
  <cp:keywords/>
  <dc:language>en-US</dc:language>
  <cp:lastModifiedBy>Deborah Holland</cp:lastModifiedBy>
  <dcterms:modified xsi:type="dcterms:W3CDTF">2011-02-11T00:44:34Z</dcterms:modified>
  <cp:revision>9</cp:revision>
  <dc:subject/>
  <dc:title>The Weimar Republ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33</vt:lpwstr>
  </property>
</Properties>
</file>